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CE7-C27F-442D-9915-B171A1B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C8A-A341-46A9-A75E-1FDCD01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3DB-6D17-4CC4-A59F-F39B2585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352-EAFC-487D-B5F8-71946719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D3D-696C-40A6-A080-D7919F90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EAD0-C75B-468B-9FAF-E3B24B4A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BD1F-742B-43BF-AE77-AAD2239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79B2-5D15-4096-8E0C-4DD6A00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38F9-126D-451A-A827-E103AFF6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5E69-6DED-4E46-99DA-418FAA5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6A26-B424-4727-9534-295BD8D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56C-16BA-4705-B729-00B2336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F631-9773-4352-A5BA-6CE9025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043-A228-45DC-A639-6C70BB2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D35-9AD1-48FF-93FC-DB08C72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054-C91D-431B-B837-2A617F4B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A6D-8822-4093-8D5E-D32427E1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C5C-98D4-4573-8E7D-76871D3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978-7700-4B9B-8E2D-55B43294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561-BEC2-4060-BE42-9015A53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EFF-BCA8-4DA9-BA69-02E19E25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3E1-2A22-46E9-8F6B-63CF8F4F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270-89F8-4889-B85C-F5CFF85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F39-B6A5-434B-9FC5-62D7995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C00-A32F-4E85-8E13-3B31F5C85C2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6AE5-7B06-451C-B1D2-60BC5034738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eb.hgtv.com/hgtv/designers_portfolio/portfolio/0,2159,HGTV_16257_1669,00.html?searchType=Portfolio&amp;Room=DP+LIVING+AREAS&amp;Style=&amp;Designer=&amp;SearchPositionIndex=8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eb.hgtv.com/hgtv/designers_portfolio/portfolio/0,2159,HGTV_16257_1682,00.html?searchType=Portfolio&amp;Room=DP+LIVING+AREAS&amp;Style=&amp;Designer=&amp;SearchPositionIndex=5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olormatters.com/colortheory" TargetMode="External"/><Relationship Id="rId2" Type="http://schemas.openxmlformats.org/officeDocument/2006/relationships/hyperlink" Target="http://www.color-wheel-pro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_adv_prop%3Dimage%26fr%3Dyfp-t-471%26va%3Dcolor%2Bwheel%26sz%3D&amp;w=432&amp;h=432&amp;imgurl=www.wcc.hawaii.edu%2Fart%2Fimages%2Fcolorwheel.jpg&amp;rurl=http%3A%2F%2Fwww.wcc.hawaii.edu%2Fart%2Fcolor.html&amp;size=23.2kB&amp;name=colorwheel.jpg&amp;p=color+wheel&amp;type=jpeg&amp;no=6&amp;tt=48,162&amp;oid=6aa310ed14d4acf6&amp;ei=ISO-8859-1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Wheel and Color Sche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02 and 3.0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arm and Cool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Warm color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 yellow, red, orange and all of the colors near them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se color are called “advancing” because they make appear clos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se colors attract your attention and make you feel happy, energetic and excited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Red actually stimulate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the nervous syste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veruse of these colors can make you feel nervous or tens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Cool Color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blue, green, violet and all colors near them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mind you of water, grass, and tre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lled “receding” colors because they make objects seem smaller and further a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ol colors are quiet and restful. Used in hospitals and bedroom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Schemes or Harmon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leasing combinations of colors based on their respective positions on the color wheel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are 6 basic color schemes/harmon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nochromat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mplest color sche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s a single hue and variation is created by changing the values and intens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Color Wheel: Monochromatic Color Scheme"/>
          <p:cNvPicPr/>
          <p:nvPr/>
        </p:nvPicPr>
        <p:blipFill>
          <a:blip r:embed="rId1"/>
          <a:stretch/>
        </p:blipFill>
        <p:spPr>
          <a:xfrm>
            <a:off x="175248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nochromat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South Facing Room with Pale Blue Color"/>
          <p:cNvPicPr/>
          <p:nvPr/>
        </p:nvPicPr>
        <p:blipFill>
          <a:blip r:embed="rId1"/>
          <a:stretch/>
        </p:blipFill>
        <p:spPr>
          <a:xfrm>
            <a:off x="1219320" y="2611440"/>
            <a:ext cx="2819160" cy="249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11480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Tropical Punch"/>
          <p:cNvPicPr/>
          <p:nvPr/>
        </p:nvPicPr>
        <p:blipFill>
          <a:blip r:embed="rId1"/>
          <a:stretch/>
        </p:blipFill>
        <p:spPr>
          <a:xfrm>
            <a:off x="3124080" y="2666880"/>
            <a:ext cx="42674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alogou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-5 color that are next to each other on the color whee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oose one color as the dominant and use smaller amounts of the others to add interest and varie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30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2" name="" descr="Color Wheel: Analogous Color Scheme"/>
          <p:cNvPicPr/>
          <p:nvPr/>
        </p:nvPicPr>
        <p:blipFill>
          <a:blip r:embed="rId1"/>
          <a:stretch/>
        </p:blipFill>
        <p:spPr>
          <a:xfrm>
            <a:off x="5867280" y="4419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038840" cy="2962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Color Scheme Image"/>
          <p:cNvPicPr/>
          <p:nvPr/>
        </p:nvPicPr>
        <p:blipFill>
          <a:blip r:embed="rId2"/>
          <a:stretch/>
        </p:blipFill>
        <p:spPr>
          <a:xfrm>
            <a:off x="5638680" y="274320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wo colors that are positioned across from each other across on color wheel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y make each other look brighter and more intens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40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2" name="" descr="Color Wheel: Complementary Color Scheme"/>
          <p:cNvPicPr/>
          <p:nvPr/>
        </p:nvPicPr>
        <p:blipFill>
          <a:blip r:embed="rId1"/>
          <a:stretch/>
        </p:blipFill>
        <p:spPr>
          <a:xfrm>
            <a:off x="60958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Hippety Hop"/>
          <p:cNvPicPr/>
          <p:nvPr/>
        </p:nvPicPr>
        <p:blipFill>
          <a:blip r:embed="rId1"/>
          <a:stretch/>
        </p:blipFill>
        <p:spPr>
          <a:xfrm>
            <a:off x="990720" y="1600200"/>
            <a:ext cx="78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or is an element or property of ligh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help create different moods in the residential and non-residential set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 color can have a psychological effect on people and no one single color can satisfy every member of the family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Color Scheme Image"/>
          <p:cNvPicPr/>
          <p:nvPr/>
        </p:nvPicPr>
        <p:blipFill>
          <a:blip r:embed="rId1"/>
          <a:stretch/>
        </p:blipFill>
        <p:spPr>
          <a:xfrm>
            <a:off x="5105520" y="2612880"/>
            <a:ext cx="3733560" cy="2738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olor Scheme Image"/>
          <p:cNvPicPr/>
          <p:nvPr/>
        </p:nvPicPr>
        <p:blipFill>
          <a:blip r:embed="rId2"/>
          <a:stretch/>
        </p:blipFill>
        <p:spPr>
          <a:xfrm>
            <a:off x="1143000" y="2666880"/>
            <a:ext cx="327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Provencal Delight"/>
          <p:cNvPicPr/>
          <p:nvPr/>
        </p:nvPicPr>
        <p:blipFill>
          <a:blip r:embed="rId1"/>
          <a:stretch/>
        </p:blipFill>
        <p:spPr>
          <a:xfrm>
            <a:off x="2286000" y="2619360"/>
            <a:ext cx="4572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lit-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color is used with the two colors adjacent to it complemen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color should be dominant and the other two used to add variety and interes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56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8" name="" descr="Color Wheel: Split Complementary Color Scheme"/>
          <p:cNvPicPr/>
          <p:nvPr/>
        </p:nvPicPr>
        <p:blipFill>
          <a:blip r:embed="rId1"/>
          <a:stretch/>
        </p:blipFill>
        <p:spPr>
          <a:xfrm>
            <a:off x="5715000" y="4800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IAD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s three colors that are equally spaced on  the color whe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primary and secondary colors form separate triadic sche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ange values and intensities to lessen the sharp contras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Color Wheel: Triadic Color Scheme"/>
          <p:cNvPicPr/>
          <p:nvPr/>
        </p:nvPicPr>
        <p:blipFill>
          <a:blip r:embed="rId1"/>
          <a:stretch/>
        </p:blipFill>
        <p:spPr>
          <a:xfrm>
            <a:off x="6553080" y="4876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IA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3" name="" descr="Bathroom with primary colors"/>
          <p:cNvPicPr/>
          <p:nvPr/>
        </p:nvPicPr>
        <p:blipFill>
          <a:blip r:embed="rId1"/>
          <a:stretch/>
        </p:blipFill>
        <p:spPr>
          <a:xfrm>
            <a:off x="1371600" y="281952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 Pop of Color"/>
          <p:cNvPicPr/>
          <p:nvPr/>
        </p:nvPicPr>
        <p:blipFill>
          <a:blip r:embed="rId2"/>
          <a:stretch/>
        </p:blipFill>
        <p:spPr>
          <a:xfrm>
            <a:off x="4191120" y="2743200"/>
            <a:ext cx="4552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Mosaic of Color"/>
          <p:cNvPicPr/>
          <p:nvPr/>
        </p:nvPicPr>
        <p:blipFill>
          <a:blip r:embed="rId1"/>
          <a:stretch/>
        </p:blipFill>
        <p:spPr>
          <a:xfrm>
            <a:off x="990720" y="1676520"/>
            <a:ext cx="78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eutr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binations of black, white, gray form this sche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also add brown, tan, bei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mall amounts of color may be added for interest. This is called “accented” neutr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952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800360" cy="1752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Modern"/>
          <p:cNvPicPr/>
          <p:nvPr/>
        </p:nvPicPr>
        <p:blipFill>
          <a:blip r:embed="rId2"/>
          <a:stretch/>
        </p:blipFill>
        <p:spPr>
          <a:xfrm>
            <a:off x="4343400" y="24382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ousing Decision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, pages 253-27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using and Interiors, pages 406-42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colormatters.com/colorthe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color-wheel-pro.c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pyright ©2007, ABCD, All rights reser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Whe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commonly used tool to understand the basis of all color relationship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 concentric rings make up the color wheel: outer, middle, inner. The middle ring consists of the primary, secondary, and intermediate/tertiary col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12880" indent="-228600">
              <a:spcBef>
                <a:spcPts val="499"/>
              </a:spcBef>
              <a:buClr>
                <a:srgbClr val="6a6a6a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03480" y="771480"/>
            <a:ext cx="49370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im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llow, red, blue are the basic colors and cannot be created by mixing other color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1600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ange, green, violet. These are created by mixing equal amounts of two primary colors and are located on the color wheel halfway between the two primary colors used to make i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ediate/Terti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de from using equal amounts of a primary and secondary color. (Primary color is always named firs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llow-green and Yellow-or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-violet and Red-or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lue-green and Blue-viole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ediate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71920" y="2362320"/>
            <a:ext cx="290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Termin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The name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The brightness or dullness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The lightness or darkness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adding black to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adding white to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6:13:03Z</dcterms:created>
  <dc:creator> sherry brooks</dc:creator>
  <dc:description/>
  <dc:language>en-US</dc:language>
  <cp:lastModifiedBy>s.brooks</cp:lastModifiedBy>
  <dcterms:modified xsi:type="dcterms:W3CDTF">2008-01-30T12:15:23Z</dcterms:modified>
  <cp:revision>24</cp:revision>
  <dc:subject/>
  <dc:title>Color Wheel and Color Schemes</dc:title>
</cp:coreProperties>
</file>